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68B3-E3C8-4066-8BFE-7C5E17D24CD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E31D-2A8C-46FB-A0C0-E6522AD89099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1702-62D9-449E-BE47-4DE3DD2C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78FC-A2C4-4A59-B063-74271DF5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A2EC-0C38-438C-82FD-7FAD8CDA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3F5D-6ADA-4FDA-99D5-6010ADBD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8093-0619-46B6-920B-A06B09CF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79EC-DAFD-483A-9AF1-FCBFC8F1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2644-F84F-44F7-A8F8-E9847BFA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8922-8C62-4CDC-B0A8-B6907B11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CFD6-679B-4A71-B4FF-85B74A92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2B22-149D-4191-9C78-4209D056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ACCB-0B04-4E70-8CEA-F9A16C59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0C82-297D-4DDD-929D-0D3ADC84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06A3-C68D-4571-88B5-C9346C56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3ACC-6212-4291-B714-35F27BB1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F8C7-5C5A-47B7-834B-363ADA85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5478-22AF-4E86-84E1-329F355E1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311C-7F5A-4C28-A647-EA2CA750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11D85-B602-4995-8C6C-A3B16A66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0EF8F-A754-4ADB-96B7-83D06AF3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C5C37-83EA-4169-91E5-F64AC3DD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0CA23-1EA8-493F-92A8-FEE2F794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4C696-A2F4-4965-A547-A3FC11CA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C118-F701-40B7-9EDD-86818E0F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462F7-B7A9-48B9-95CF-AED3942A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D3538-A63E-42EA-9F8B-49538DAE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45316-392B-4C94-8F1C-4A70D81F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0CC36-CF8F-4CDF-AB0B-780166EF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2DD83-A9C1-4C76-B57D-A09B1280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39C5F-95D7-4A49-B7B6-2BCEE0C0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FF4F3-F477-4CF8-9E31-E3E2F1AE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1198F-6927-44A5-87C8-BF697954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73F92-9D2C-4557-B23C-96F78D50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A6E2A-83D3-4740-AF6A-20B79A88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152A-2919-4567-BB76-2AD260E1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B8F1D-A7E5-4078-9F99-EA28E457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86F67-5916-48B4-A906-64EAD855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9C95E-F120-491E-BF57-6DB9724E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74F8A-5300-4484-A81C-65BD84FE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B9772-F0D2-4C94-8EF0-0DF1AB02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2DC18-15CE-4CF1-9727-48ED88B8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A48C6-AA53-4573-B402-2DF9CE9B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2BACE-3456-423F-953F-289C3F06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1FF52-D116-4F61-B3AC-572E9337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3A2F7-4F1E-4131-9040-100113EC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249E-0634-48DD-8995-2E98FDA9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40BEB-715D-43BE-81EC-5B50294D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01392-950E-4BBF-A558-E9ED8CF6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3053C-D1B8-42CD-8159-1C3DABF2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81BB6-D4EB-479F-A065-8174A73F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75CAF-FEB1-494C-AAAF-9D6CCCD8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AC89D-1845-4009-8996-4BD8BFAE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26E3F-3CC8-47B7-85C0-5C94A3AA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A075E-02D8-4867-89B5-0F848D59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236CD-B007-477F-8E8E-02296F85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645DC-5AB4-48A6-95CD-CE8D41BF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900B-5302-4441-8E96-BC81D6A9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F0668-2F08-47DA-ADA8-78FAAF3F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C6292-0951-4345-B6EB-AE7E3967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74B25-536F-4D2D-92AB-67724D8C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ED67E-FCE6-4BF3-A7A3-03672DF5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650DD-8C1A-410A-BEEC-D92E2F63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D94AE-B6A8-4B71-B239-34956932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ED1BF-5E07-4344-946F-3E5F81EF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2A9A8-A88F-4F60-BCC4-400E351D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EEE1A-D3A1-4F4A-A7B7-309A5FB7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2A9BF-75B8-4977-AE7E-FB69BF9C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491B-35F8-4D81-AA92-036DF69E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5EDCD-D9B5-4E21-A225-F8747A76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61460-59EB-4F09-917E-10384F34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2320D-F760-43CC-9263-2CEEC62F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F626B-7D0C-4608-B5CE-BF2481E4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1949A-F9D8-472F-B536-9E0348E3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5A598-18C3-4D61-9295-8117DF61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F3EA8-3C03-4D84-9E14-1D754AB0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14FE7-F0E7-4A87-A8DC-75238A96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3706D-A25D-4C6F-B33A-E3F38ADA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D0405-54E5-4B7F-A8D4-C4AF3E0A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2D56-AA1D-4EF7-BEFD-26047522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E0288-3297-472D-8DC7-3058D50C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5DB18-44E0-4ED6-A3DB-87CE34C3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DDA00-623D-4277-8C7A-CF71EEA8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1CE00-45F6-4F0B-8EDE-9E444F02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3B177-DDF9-4439-A891-8411060D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9872-54C7-468D-BA6E-971CFB66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新北市立金山高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67B8-0CBE-4476-9EC5-4504B9096DC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新北市立金山高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9075-CCC3-4E01-8F77-D606B4E132F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新北市立金山高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FE9D-5E9A-424D-9571-13F08BE4DAE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新北市立金山高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ABD4-F8EA-444A-8DC0-C6B8FECA161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新北市立金山高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F058-49FC-417D-8116-2B9523B2F1F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新北市立金山高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89D6-2ADB-422D-B4DD-5CAB58AF9E6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新北市立金山高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0750-5F88-4F8B-9485-28F336B5F35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Candara"/>
              </a:rPr>
              <a:t>秘書室報告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68360" y="2781360"/>
            <a:ext cx="78487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700" spc="-1" strike="noStrike">
                <a:solidFill>
                  <a:srgbClr val="073e87"/>
                </a:solidFill>
                <a:latin typeface="標楷體"/>
              </a:rPr>
              <a:t>會費</a:t>
            </a:r>
            <a:r>
              <a:rPr b="0" lang="en-US" sz="3700" spc="-1" strike="noStrike">
                <a:solidFill>
                  <a:srgbClr val="073e87"/>
                </a:solidFill>
                <a:latin typeface="標楷體"/>
              </a:rPr>
              <a:t>:180</a:t>
            </a:r>
            <a:r>
              <a:rPr b="0" lang="zh-TW" sz="3700" spc="-1" strike="noStrike">
                <a:solidFill>
                  <a:srgbClr val="073e87"/>
                </a:solidFill>
                <a:latin typeface="標楷體"/>
              </a:rPr>
              <a:t>元 紀念品、餐會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700" spc="-1" strike="noStrike">
                <a:solidFill>
                  <a:srgbClr val="073e87"/>
                </a:solidFill>
                <a:latin typeface="標楷體"/>
              </a:rPr>
              <a:t>      </a:t>
            </a:r>
            <a:r>
              <a:rPr b="0" lang="en-US" sz="3700" spc="-1" strike="noStrike">
                <a:solidFill>
                  <a:srgbClr val="073e87"/>
                </a:solidFill>
                <a:latin typeface="標楷體"/>
              </a:rPr>
              <a:t>100</a:t>
            </a:r>
            <a:r>
              <a:rPr b="0" lang="zh-TW" sz="3700" spc="-1" strike="noStrike">
                <a:solidFill>
                  <a:srgbClr val="073e87"/>
                </a:solidFill>
                <a:latin typeface="標楷體"/>
              </a:rPr>
              <a:t>元 無紀念品、無餐會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924"/>
              </a:spcBef>
              <a:buClr>
                <a:srgbClr val="31b6f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700" spc="-1" strike="noStrike">
                <a:solidFill>
                  <a:srgbClr val="073e87"/>
                </a:solidFill>
                <a:latin typeface="標楷體"/>
              </a:rPr>
              <a:t>表揚資深教師 </a:t>
            </a:r>
            <a:r>
              <a:rPr b="0" lang="en-US" sz="3700" spc="-1" strike="noStrike">
                <a:solidFill>
                  <a:srgbClr val="073e87"/>
                </a:solidFill>
                <a:latin typeface="標楷體"/>
              </a:rPr>
              <a:t>(</a:t>
            </a:r>
            <a:r>
              <a:rPr b="0" lang="zh-TW" sz="3700" spc="-1" strike="noStrike">
                <a:solidFill>
                  <a:srgbClr val="073e87"/>
                </a:solidFill>
                <a:latin typeface="標楷體"/>
              </a:rPr>
              <a:t>紀念品</a:t>
            </a:r>
            <a:r>
              <a:rPr b="0" lang="en-US" sz="3700" spc="-1" strike="noStrike">
                <a:solidFill>
                  <a:srgbClr val="073e87"/>
                </a:solidFill>
                <a:latin typeface="標楷體"/>
              </a:rPr>
              <a:t>)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700" spc="-1" strike="noStrike">
                <a:solidFill>
                  <a:srgbClr val="073e87"/>
                </a:solidFill>
                <a:latin typeface="標楷體"/>
              </a:rPr>
              <a:t>敬師大會    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700" spc="-1" strike="noStrike">
                <a:solidFill>
                  <a:srgbClr val="073e87"/>
                </a:solidFill>
                <a:latin typeface="標楷體"/>
              </a:rPr>
              <a:t>  </a:t>
            </a:r>
            <a:r>
              <a:rPr b="0" lang="en-US" sz="3700" spc="-1" strike="noStrike">
                <a:solidFill>
                  <a:srgbClr val="073e87"/>
                </a:solidFill>
                <a:latin typeface="標楷體"/>
              </a:rPr>
              <a:t>9/25 (</a:t>
            </a:r>
            <a:r>
              <a:rPr b="0" lang="zh-TW" sz="3700" spc="-1" strike="noStrike">
                <a:solidFill>
                  <a:srgbClr val="073e87"/>
                </a:solidFill>
                <a:latin typeface="標楷體"/>
              </a:rPr>
              <a:t>四</a:t>
            </a:r>
            <a:r>
              <a:rPr b="0" lang="en-US" sz="3700" spc="-1" strike="noStrike">
                <a:solidFill>
                  <a:srgbClr val="073e87"/>
                </a:solidFill>
                <a:latin typeface="標楷體"/>
              </a:rPr>
              <a:t>) </a:t>
            </a:r>
            <a:r>
              <a:rPr b="0" lang="zh-TW" sz="3700" spc="-1" strike="noStrike">
                <a:solidFill>
                  <a:srgbClr val="073e87"/>
                </a:solidFill>
                <a:latin typeface="標楷體"/>
              </a:rPr>
              <a:t>金山高中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700" spc="-1" strike="noStrike">
                <a:solidFill>
                  <a:srgbClr val="073e87"/>
                </a:solidFill>
                <a:latin typeface="標楷體"/>
              </a:rPr>
              <a:t>            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頁尾版面配置區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Arial"/>
              </a:rPr>
              <a:t>新北市立金山高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Candara"/>
              </a:rPr>
              <a:t>金山區教育會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539280" y="2276640"/>
            <a:ext cx="809172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文鼎古印體"/>
                <a:ea typeface="文鼎古印體"/>
              </a:rPr>
              <a:t>5</a:t>
            </a:r>
            <a:r>
              <a:rPr b="0" lang="zh-TW" sz="3200" spc="-1" strike="noStrike">
                <a:solidFill>
                  <a:srgbClr val="073e87"/>
                </a:solidFill>
                <a:latin typeface="文鼎古印體"/>
                <a:ea typeface="文鼎古印體"/>
              </a:rPr>
              <a:t>年</a:t>
            </a:r>
            <a:r>
              <a:rPr b="0" lang="en-US" sz="3200" spc="-1" strike="noStrike">
                <a:solidFill>
                  <a:srgbClr val="073e87"/>
                </a:solidFill>
                <a:latin typeface="文鼎古印體"/>
                <a:ea typeface="文鼎古印體"/>
              </a:rPr>
              <a:t>  </a:t>
            </a:r>
            <a:r>
              <a:rPr b="0" lang="zh-TW" sz="3200" spc="-1" strike="noStrike">
                <a:solidFill>
                  <a:srgbClr val="073e87"/>
                </a:solidFill>
                <a:latin typeface="文鼎古印體"/>
                <a:ea typeface="文鼎古印體"/>
              </a:rPr>
              <a:t>高建國、 許雅玲、 何奇英、許益銘 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文鼎古印體"/>
                <a:ea typeface="文鼎古印體"/>
              </a:rPr>
              <a:t>10</a:t>
            </a:r>
            <a:r>
              <a:rPr b="0" lang="zh-TW" sz="3200" spc="-1" strike="noStrike">
                <a:solidFill>
                  <a:srgbClr val="073e87"/>
                </a:solidFill>
                <a:latin typeface="文鼎古印體"/>
                <a:ea typeface="文鼎古印體"/>
              </a:rPr>
              <a:t>年 陳淑芬、簡珠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文鼎古印體"/>
                <a:ea typeface="文鼎古印體"/>
              </a:rPr>
              <a:t>15</a:t>
            </a:r>
            <a:r>
              <a:rPr b="0" lang="zh-TW" sz="3200" spc="-1" strike="noStrike">
                <a:solidFill>
                  <a:srgbClr val="073e87"/>
                </a:solidFill>
                <a:latin typeface="文鼎古印體"/>
                <a:ea typeface="文鼎古印體"/>
              </a:rPr>
              <a:t>年  王怡文、謝依萍、范麗萍、簡秀萍、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73e87"/>
                </a:solidFill>
                <a:latin typeface="文鼎古印體"/>
                <a:ea typeface="文鼎古印體"/>
              </a:rPr>
              <a:t>       </a:t>
            </a:r>
            <a:r>
              <a:rPr b="0" lang="zh-TW" sz="3200" spc="-1" strike="noStrike">
                <a:solidFill>
                  <a:srgbClr val="073e87"/>
                </a:solidFill>
                <a:latin typeface="文鼎古印體"/>
                <a:ea typeface="文鼎古印體"/>
              </a:rPr>
              <a:t>曾國誌、 張淑粉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頁尾版面配置區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Arial"/>
              </a:rPr>
              <a:t>新北市立金山高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</a:rPr>
              <a:t>資深教師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71560" y="1844280"/>
            <a:ext cx="7408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73e87"/>
                </a:solidFill>
                <a:latin typeface="文鼎超顏楷"/>
                <a:ea typeface="文鼎粗隸"/>
              </a:rPr>
              <a:t>推薦單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73e87"/>
                </a:solidFill>
                <a:latin typeface="文鼎超顏楷"/>
                <a:ea typeface="文鼎粗隸"/>
              </a:rPr>
              <a:t>選出</a:t>
            </a:r>
            <a:r>
              <a:rPr b="0" lang="en-US" sz="6000" spc="-1" strike="noStrike">
                <a:solidFill>
                  <a:srgbClr val="073e87"/>
                </a:solidFill>
                <a:latin typeface="文鼎超顏楷"/>
                <a:ea typeface="文鼎粗隸"/>
              </a:rPr>
              <a:t>1</a:t>
            </a:r>
            <a:r>
              <a:rPr b="0" lang="zh-TW" sz="6000" spc="-1" strike="noStrike">
                <a:solidFill>
                  <a:srgbClr val="073e87"/>
                </a:solidFill>
                <a:latin typeface="文鼎超顏楷"/>
                <a:ea typeface="文鼎粗隸"/>
              </a:rPr>
              <a:t>名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73e87"/>
                </a:solidFill>
                <a:latin typeface="文鼎超顏楷"/>
                <a:ea typeface="文鼎粗隸"/>
              </a:rPr>
              <a:t>9/18(</a:t>
            </a:r>
            <a:r>
              <a:rPr b="0" lang="zh-TW" sz="6000" spc="-1" strike="noStrike">
                <a:solidFill>
                  <a:srgbClr val="073e87"/>
                </a:solidFill>
                <a:latin typeface="文鼎超顏楷"/>
                <a:ea typeface="文鼎粗隸"/>
              </a:rPr>
              <a:t>四</a:t>
            </a:r>
            <a:r>
              <a:rPr b="0" lang="en-US" sz="6000" spc="-1" strike="noStrike">
                <a:solidFill>
                  <a:srgbClr val="073e87"/>
                </a:solidFill>
                <a:latin typeface="文鼎超顏楷"/>
                <a:ea typeface="文鼎粗隸"/>
              </a:rPr>
              <a:t>)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頁尾版面配置區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Arial"/>
              </a:rPr>
              <a:t>新北市立金山高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</a:rPr>
              <a:t>班級家長代表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06:33:58Z</dcterms:created>
  <dc:creator>CSHS</dc:creator>
  <dc:description/>
  <dc:language>en-US</dc:language>
  <cp:lastModifiedBy>User</cp:lastModifiedBy>
  <dcterms:modified xsi:type="dcterms:W3CDTF">2014-08-28T08:44:31Z</dcterms:modified>
  <cp:revision>14</cp:revision>
  <dc:subject/>
  <dc:title>投影片 1</dc:title>
</cp:coreProperties>
</file>